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08763821447376"/>
          <c:y val="0.182723799126638"/>
          <c:w val="0.511261920084245"/>
          <c:h val="0.735944323144105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оспитанники УДОД</c:v>
                </c:pt>
              </c:strCache>
            </c:strRef>
          </c:tx>
          <c:spPr>
            <a:solidFill>
              <a:srgbClr val="404040"/>
            </a:solidFill>
            <a:ln w="0">
              <a:solidFill>
                <a:srgbClr val="404040"/>
              </a:solidFill>
            </a:ln>
          </c:spPr>
          <c:invertIfNegative val="0"/>
          <c:dPt>
            <c:idx val="3"/>
            <c:invertIfNegative val="0"/>
            <c:spPr>
              <a:solidFill>
                <a:srgbClr val="404040"/>
              </a:solidFill>
              <a:ln w="0">
                <a:solidFill>
                  <a:srgbClr val="404040"/>
                </a:solidFill>
              </a:ln>
            </c:spPr>
          </c:dPt>
          <c:dPt>
            <c:idx val="4"/>
            <c:invertIfNegative val="0"/>
            <c:spPr>
              <a:solidFill>
                <a:srgbClr val="404040"/>
              </a:solidFill>
              <a:ln w="0">
                <a:solidFill>
                  <a:srgbClr val="404040"/>
                </a:solidFill>
              </a:ln>
            </c:spPr>
          </c:dPt>
          <c:dLbls>
            <c:numFmt formatCode="General" sourceLinked="0"/>
            <c:dLbl>
              <c:idx val="3"/>
              <c:layout>
                <c:manualLayout>
                  <c:x val="-0.00348581438230547"/>
                  <c:y val="0.023391855950372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39432575292218"/>
                  <c:y val="0.007719345888848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2009-2010</c:v>
                </c:pt>
                <c:pt idx="1">
                  <c:v>2010-2011</c:v>
                </c:pt>
                <c:pt idx="2">
                  <c:v>2011-2012</c:v>
                </c:pt>
                <c:pt idx="3">
                  <c:v>2012-2013</c:v>
                </c:pt>
                <c:pt idx="4">
                  <c:v>2013-20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</c:v>
                </c:pt>
                <c:pt idx="1">
                  <c:v>2</c:v>
                </c:pt>
                <c:pt idx="2">
                  <c:v>2</c:v>
                </c:pt>
                <c:pt idx="4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Учащиеся школ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ff0000"/>
              </a:solidFill>
            </a:ln>
          </c:spPr>
          <c:invertIfNegative val="0"/>
          <c:dPt>
            <c:idx val="4"/>
            <c:invertIfNegative val="0"/>
            <c:spPr>
              <a:solidFill>
                <a:srgbClr val="ff0000"/>
              </a:solidFill>
              <a:ln w="0">
                <a:solidFill>
                  <a:srgbClr val="ff0000"/>
                </a:solidFill>
              </a:ln>
            </c:spPr>
          </c:dPt>
          <c:dLbls>
            <c:numFmt formatCode="General" sourceLinked="0"/>
            <c:dLbl>
              <c:idx val="4"/>
              <c:layout>
                <c:manualLayout>
                  <c:x val="0.00270579654750111"/>
                  <c:y val="-0.023391668776790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2009-2010</c:v>
                </c:pt>
                <c:pt idx="1">
                  <c:v>2010-2011</c:v>
                </c:pt>
                <c:pt idx="2">
                  <c:v>2011-2012</c:v>
                </c:pt>
                <c:pt idx="3">
                  <c:v>2012-2013</c:v>
                </c:pt>
                <c:pt idx="4">
                  <c:v>2013-201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</c:v>
                </c:pt>
                <c:pt idx="1">
                  <c:v>3</c:v>
                </c:pt>
                <c:pt idx="2">
                  <c:v>2</c:v>
                </c:pt>
                <c:pt idx="3">
                  <c:v>2</c:v>
                </c:pt>
                <c:pt idx="4">
                  <c:v>4</c:v>
                </c:pt>
              </c:numCache>
            </c:numRef>
          </c:val>
        </c:ser>
        <c:gapWidth val="75"/>
        <c:overlap val="-25"/>
        <c:axId val="47180819"/>
        <c:axId val="99490072"/>
      </c:barChart>
      <c:catAx>
        <c:axId val="4718081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490072"/>
        <c:crosses val="autoZero"/>
        <c:auto val="1"/>
        <c:lblAlgn val="ctr"/>
        <c:lblOffset val="100"/>
        <c:noMultiLvlLbl val="0"/>
      </c:catAx>
      <c:valAx>
        <c:axId val="99490072"/>
        <c:scaling>
          <c:orientation val="minMax"/>
          <c:max val="8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180819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718334704920292"/>
          <c:y val="0.267143554620868"/>
          <c:w val="0.277717107264601"/>
          <c:h val="0.38522544460432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Arial Narrow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ельный вес победителей и призеров регионального этапа всероссийской олимпиады школьников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94978465615978"/>
          <c:y val="0.470110945520782"/>
          <c:w val="0.855506649628473"/>
          <c:h val="0.31296572280178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Удельный вес победителей и призеров </c:v>
                </c:pt>
              </c:strCache>
            </c:strRef>
          </c:tx>
          <c:spPr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c:spPr>
          <c:dPt>
            <c:idx val="0"/>
          </c:dPt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Lbls>
            <c:numFmt formatCode="0%" sourceLinked="0"/>
            <c:dLbl>
              <c:idx val="0"/>
              <c:layout>
                <c:manualLayout>
                  <c:x val="-0.0117155407662997"/>
                  <c:y val="-0.14038480748981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0468621630651988"/>
                  <c:y val="-0.11958705823206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"/>
                  <c:y val="-0.0883904343454359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-0.00238078079081135"/>
                  <c:y val="-0.119645500911527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62887884376287"/>
                  <c:y val="-0.104018210772649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layout>
                <c:manualLayout>
                  <c:x val="0.00166959854305848"/>
                  <c:y val="-0.0860209033052802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2007-2008</c:v>
                </c:pt>
                <c:pt idx="1">
                  <c:v>2008-2008</c:v>
                </c:pt>
                <c:pt idx="2">
                  <c:v>2009-2010</c:v>
                </c:pt>
                <c:pt idx="3">
                  <c:v>2010-2011</c:v>
                </c:pt>
                <c:pt idx="4">
                  <c:v>2011-2012</c:v>
                </c:pt>
                <c:pt idx="5">
                  <c:v>2012-2013</c:v>
                </c:pt>
                <c:pt idx="6">
                  <c:v>2013-20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08</c:v>
                </c:pt>
                <c:pt idx="1">
                  <c:v>0.18</c:v>
                </c:pt>
                <c:pt idx="2">
                  <c:v>0.23</c:v>
                </c:pt>
                <c:pt idx="3">
                  <c:v>0.237</c:v>
                </c:pt>
                <c:pt idx="4">
                  <c:v>0.25</c:v>
                </c:pt>
                <c:pt idx="5">
                  <c:v>0.25</c:v>
                </c:pt>
                <c:pt idx="6">
                  <c:v>0.2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1615280"/>
        <c:axId val="62561351"/>
      </c:lineChart>
      <c:catAx>
        <c:axId val="4161528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61351"/>
        <c:crosses val="autoZero"/>
        <c:auto val="1"/>
        <c:lblAlgn val="ctr"/>
        <c:lblOffset val="100"/>
        <c:noMultiLvlLbl val="0"/>
      </c:catAx>
      <c:valAx>
        <c:axId val="6256135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minorGridlines>
          <c:spPr>
            <a:ln w="9360">
              <a:solidFill>
                <a:srgbClr val="b7b7b7"/>
              </a:solidFill>
              <a:round/>
            </a:ln>
          </c:spPr>
        </c:min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1528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EBDC1F5-2346-469D-A048-0D9838E97DA3}" type="doc">
      <dgm:prSet loTypeId="urn:microsoft.com/office/officeart/2005/8/layout/cycle8" loCatId="cycle" qsTypeId="urn:microsoft.com/office/officeart/2005/8/quickstyle/simple1" qsCatId="simple" csTypeId="urn:microsoft.com/office/officeart/2005/8/colors/accent2_1" csCatId="accent2" phldr="1"/>
      <dgm:spPr/>
    </dgm:pt>
    <dgm:pt modelId="{2FCDA8DB-F201-4954-9C48-F9427C2F9E8F}">
      <dgm:prSet phldrT="[Текст]"/>
      <dgm:spPr/>
      <dgm:t>
        <a:bodyPr/>
        <a:lstStyle/>
        <a:p>
          <a:r>
            <a:rPr lang="ru-RU" b="1" dirty="0" smtClean="0"/>
            <a:t>Выявление  одаренных</a:t>
          </a:r>
          <a:endParaRPr lang="ru-RU" dirty="0"/>
        </a:p>
      </dgm:t>
    </dgm:pt>
    <dgm:pt modelId="{855B419C-7F5D-4597-B823-A2DEDEE5F5C1}" type="parTrans" cxnId="{BADB7CBE-F315-4334-8391-8491531F1165}">
      <dgm:prSet/>
      <dgm:spPr/>
      <dgm:t>
        <a:bodyPr/>
        <a:lstStyle/>
        <a:p>
          <a:endParaRPr lang="ru-RU"/>
        </a:p>
      </dgm:t>
    </dgm:pt>
    <dgm:pt modelId="{A2D2B940-55E4-4498-922B-5A3937C5E03F}" type="sibTrans" cxnId="{BADB7CBE-F315-4334-8391-8491531F1165}">
      <dgm:prSet/>
      <dgm:spPr/>
      <dgm:t>
        <a:bodyPr/>
        <a:lstStyle/>
        <a:p>
          <a:endParaRPr lang="ru-RU"/>
        </a:p>
      </dgm:t>
    </dgm:pt>
    <dgm:pt modelId="{7699BDCB-B8A2-4FBF-82D8-510713455C5C}">
      <dgm:prSet phldrT="[Текст]"/>
      <dgm:spPr/>
      <dgm:t>
        <a:bodyPr/>
        <a:lstStyle/>
        <a:p>
          <a:r>
            <a:rPr lang="ru-RU" b="1" dirty="0" smtClean="0"/>
            <a:t>Сопровождение  одаренных </a:t>
          </a:r>
          <a:endParaRPr lang="ru-RU" dirty="0"/>
        </a:p>
      </dgm:t>
    </dgm:pt>
    <dgm:pt modelId="{2F364233-F757-4BAD-B6D2-C667FEFA8F36}" type="parTrans" cxnId="{E692D006-C1CC-49D8-9548-7B36AB21E6A7}">
      <dgm:prSet/>
      <dgm:spPr/>
      <dgm:t>
        <a:bodyPr/>
        <a:lstStyle/>
        <a:p>
          <a:endParaRPr lang="ru-RU"/>
        </a:p>
      </dgm:t>
    </dgm:pt>
    <dgm:pt modelId="{5D8734A5-3328-46DC-BFD7-2FDD4D5BBCC9}" type="sibTrans" cxnId="{E692D006-C1CC-49D8-9548-7B36AB21E6A7}">
      <dgm:prSet/>
      <dgm:spPr/>
      <dgm:t>
        <a:bodyPr/>
        <a:lstStyle/>
        <a:p>
          <a:endParaRPr lang="ru-RU"/>
        </a:p>
      </dgm:t>
    </dgm:pt>
    <dgm:pt modelId="{867FE7C9-1BC8-4D36-B258-9DE04D5CCC24}">
      <dgm:prSet phldrT="[Текст]"/>
      <dgm:spPr/>
      <dgm:t>
        <a:bodyPr/>
        <a:lstStyle/>
        <a:p>
          <a:r>
            <a:rPr lang="ru-RU" b="1" dirty="0" smtClean="0"/>
            <a:t>Поддержка  одаренных</a:t>
          </a:r>
          <a:endParaRPr lang="ru-RU" dirty="0"/>
        </a:p>
      </dgm:t>
    </dgm:pt>
    <dgm:pt modelId="{F98B1A94-999A-48C3-BA28-728A5D44DC81}" type="parTrans" cxnId="{1EF79C7B-B5B1-4F82-9446-AD281FEE82D9}">
      <dgm:prSet/>
      <dgm:spPr/>
      <dgm:t>
        <a:bodyPr/>
        <a:lstStyle/>
        <a:p>
          <a:endParaRPr lang="ru-RU"/>
        </a:p>
      </dgm:t>
    </dgm:pt>
    <dgm:pt modelId="{F20697FD-A480-4387-88CB-2D30176E8D4C}" type="sibTrans" cxnId="{1EF79C7B-B5B1-4F82-9446-AD281FEE82D9}">
      <dgm:prSet/>
      <dgm:spPr/>
      <dgm:t>
        <a:bodyPr/>
        <a:lstStyle/>
        <a:p>
          <a:endParaRPr lang="ru-RU"/>
        </a:p>
      </dgm:t>
    </dgm:pt>
    <dgm:pt modelId="{C796A7D1-6734-4FE3-85FA-F0BE3A08B22D}" type="pres">
      <dgm:prSet presAssocID="{CEBDC1F5-2346-469D-A048-0D9838E97DA3}" presName="compositeShape" presStyleCnt="0">
        <dgm:presLayoutVars>
          <dgm:chMax val="7"/>
          <dgm:dir/>
          <dgm:resizeHandles val="exact"/>
        </dgm:presLayoutVars>
      </dgm:prSet>
      <dgm:spPr/>
    </dgm:pt>
    <dgm:pt modelId="{BF9B5504-6EFE-4F2F-83C7-C81A4E555481}" type="pres">
      <dgm:prSet presAssocID="{CEBDC1F5-2346-469D-A048-0D9838E97DA3}" presName="wedge1" presStyleLbl="node1" presStyleIdx="0" presStyleCnt="3"/>
      <dgm:spPr/>
      <dgm:t>
        <a:bodyPr/>
        <a:lstStyle/>
        <a:p>
          <a:endParaRPr lang="ru-RU"/>
        </a:p>
      </dgm:t>
    </dgm:pt>
    <dgm:pt modelId="{AC38919C-C684-492C-A967-31444BA8E40A}" type="pres">
      <dgm:prSet presAssocID="{CEBDC1F5-2346-469D-A048-0D9838E97DA3}" presName="dummy1a" presStyleCnt="0"/>
      <dgm:spPr/>
    </dgm:pt>
    <dgm:pt modelId="{337CCDFB-4D09-4EBC-8DEC-00576994D85C}" type="pres">
      <dgm:prSet presAssocID="{CEBDC1F5-2346-469D-A048-0D9838E97DA3}" presName="dummy1b" presStyleCnt="0"/>
      <dgm:spPr/>
    </dgm:pt>
    <dgm:pt modelId="{70B17F4E-D206-42DB-B40B-C4781DAE0EC4}" type="pres">
      <dgm:prSet presAssocID="{CEBDC1F5-2346-469D-A048-0D9838E97DA3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9D3A27F-1825-4F4E-9BC5-97E64DCA1DCF}" type="pres">
      <dgm:prSet presAssocID="{CEBDC1F5-2346-469D-A048-0D9838E97DA3}" presName="wedge2" presStyleLbl="node1" presStyleIdx="1" presStyleCnt="3"/>
      <dgm:spPr/>
      <dgm:t>
        <a:bodyPr/>
        <a:lstStyle/>
        <a:p>
          <a:endParaRPr lang="ru-RU"/>
        </a:p>
      </dgm:t>
    </dgm:pt>
    <dgm:pt modelId="{42EF4734-C20E-4131-B880-A19B04D4C638}" type="pres">
      <dgm:prSet presAssocID="{CEBDC1F5-2346-469D-A048-0D9838E97DA3}" presName="dummy2a" presStyleCnt="0"/>
      <dgm:spPr/>
    </dgm:pt>
    <dgm:pt modelId="{E10C792A-7359-4EE2-8CD6-D8B29056622B}" type="pres">
      <dgm:prSet presAssocID="{CEBDC1F5-2346-469D-A048-0D9838E97DA3}" presName="dummy2b" presStyleCnt="0"/>
      <dgm:spPr/>
    </dgm:pt>
    <dgm:pt modelId="{2480E12D-5615-47CB-AD70-9C94E5489039}" type="pres">
      <dgm:prSet presAssocID="{CEBDC1F5-2346-469D-A048-0D9838E97DA3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EC44DE0-9915-4562-8712-9A592BB9B993}" type="pres">
      <dgm:prSet presAssocID="{CEBDC1F5-2346-469D-A048-0D9838E97DA3}" presName="wedge3" presStyleLbl="node1" presStyleIdx="2" presStyleCnt="3"/>
      <dgm:spPr/>
      <dgm:t>
        <a:bodyPr/>
        <a:lstStyle/>
        <a:p>
          <a:endParaRPr lang="ru-RU"/>
        </a:p>
      </dgm:t>
    </dgm:pt>
    <dgm:pt modelId="{23B74A22-D770-4E1E-8B96-3F18EEA70965}" type="pres">
      <dgm:prSet presAssocID="{CEBDC1F5-2346-469D-A048-0D9838E97DA3}" presName="dummy3a" presStyleCnt="0"/>
      <dgm:spPr/>
    </dgm:pt>
    <dgm:pt modelId="{9293EC2F-A914-4D12-B6D1-40BB160A85A4}" type="pres">
      <dgm:prSet presAssocID="{CEBDC1F5-2346-469D-A048-0D9838E97DA3}" presName="dummy3b" presStyleCnt="0"/>
      <dgm:spPr/>
    </dgm:pt>
    <dgm:pt modelId="{C36EA84D-3189-431B-A978-6BBA352A7EC8}" type="pres">
      <dgm:prSet presAssocID="{CEBDC1F5-2346-469D-A048-0D9838E97DA3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B99F34A-7E2A-4EDD-B896-7F47560FD55E}" type="pres">
      <dgm:prSet presAssocID="{A2D2B940-55E4-4498-922B-5A3937C5E03F}" presName="arrowWedge1" presStyleLbl="fgSibTrans2D1" presStyleIdx="0" presStyleCnt="3"/>
      <dgm:spPr/>
    </dgm:pt>
    <dgm:pt modelId="{EDAC6138-C99D-4680-A6C6-75B6FC1ED29A}" type="pres">
      <dgm:prSet presAssocID="{5D8734A5-3328-46DC-BFD7-2FDD4D5BBCC9}" presName="arrowWedge2" presStyleLbl="fgSibTrans2D1" presStyleIdx="1" presStyleCnt="3"/>
      <dgm:spPr/>
    </dgm:pt>
    <dgm:pt modelId="{D90F7123-87F3-4760-B27A-7E676B1F1AB7}" type="pres">
      <dgm:prSet presAssocID="{F20697FD-A480-4387-88CB-2D30176E8D4C}" presName="arrowWedge3" presStyleLbl="fgSibTrans2D1" presStyleIdx="2" presStyleCnt="3"/>
      <dgm:spPr/>
    </dgm:pt>
  </dgm:ptLst>
  <dgm:cxnLst>
    <dgm:cxn modelId="{4FE6CAF6-E782-46F4-B466-44AC17CAED84}" type="presOf" srcId="{867FE7C9-1BC8-4D36-B258-9DE04D5CCC24}" destId="{C36EA84D-3189-431B-A978-6BBA352A7EC8}" srcOrd="1" destOrd="0" presId="urn:microsoft.com/office/officeart/2005/8/layout/cycle8"/>
    <dgm:cxn modelId="{7F2C10B4-E4B3-40AA-9E4D-F0772D8F63C0}" type="presOf" srcId="{7699BDCB-B8A2-4FBF-82D8-510713455C5C}" destId="{2480E12D-5615-47CB-AD70-9C94E5489039}" srcOrd="1" destOrd="0" presId="urn:microsoft.com/office/officeart/2005/8/layout/cycle8"/>
    <dgm:cxn modelId="{1EF79C7B-B5B1-4F82-9446-AD281FEE82D9}" srcId="{CEBDC1F5-2346-469D-A048-0D9838E97DA3}" destId="{867FE7C9-1BC8-4D36-B258-9DE04D5CCC24}" srcOrd="2" destOrd="0" parTransId="{F98B1A94-999A-48C3-BA28-728A5D44DC81}" sibTransId="{F20697FD-A480-4387-88CB-2D30176E8D4C}"/>
    <dgm:cxn modelId="{98ACFD4D-E6DB-4030-8995-4CD5E27A428D}" type="presOf" srcId="{CEBDC1F5-2346-469D-A048-0D9838E97DA3}" destId="{C796A7D1-6734-4FE3-85FA-F0BE3A08B22D}" srcOrd="0" destOrd="0" presId="urn:microsoft.com/office/officeart/2005/8/layout/cycle8"/>
    <dgm:cxn modelId="{33071F9F-3FC9-41DD-9D1C-7398CCDBBF08}" type="presOf" srcId="{7699BDCB-B8A2-4FBF-82D8-510713455C5C}" destId="{69D3A27F-1825-4F4E-9BC5-97E64DCA1DCF}" srcOrd="0" destOrd="0" presId="urn:microsoft.com/office/officeart/2005/8/layout/cycle8"/>
    <dgm:cxn modelId="{83645618-B5E9-43C3-9F5F-5919AAECDCC8}" type="presOf" srcId="{867FE7C9-1BC8-4D36-B258-9DE04D5CCC24}" destId="{CEC44DE0-9915-4562-8712-9A592BB9B993}" srcOrd="0" destOrd="0" presId="urn:microsoft.com/office/officeart/2005/8/layout/cycle8"/>
    <dgm:cxn modelId="{BADB7CBE-F315-4334-8391-8491531F1165}" srcId="{CEBDC1F5-2346-469D-A048-0D9838E97DA3}" destId="{2FCDA8DB-F201-4954-9C48-F9427C2F9E8F}" srcOrd="0" destOrd="0" parTransId="{855B419C-7F5D-4597-B823-A2DEDEE5F5C1}" sibTransId="{A2D2B940-55E4-4498-922B-5A3937C5E03F}"/>
    <dgm:cxn modelId="{E692D006-C1CC-49D8-9548-7B36AB21E6A7}" srcId="{CEBDC1F5-2346-469D-A048-0D9838E97DA3}" destId="{7699BDCB-B8A2-4FBF-82D8-510713455C5C}" srcOrd="1" destOrd="0" parTransId="{2F364233-F757-4BAD-B6D2-C667FEFA8F36}" sibTransId="{5D8734A5-3328-46DC-BFD7-2FDD4D5BBCC9}"/>
    <dgm:cxn modelId="{16C18A1F-2996-418A-AF7E-387F06A14485}" type="presOf" srcId="{2FCDA8DB-F201-4954-9C48-F9427C2F9E8F}" destId="{BF9B5504-6EFE-4F2F-83C7-C81A4E555481}" srcOrd="0" destOrd="0" presId="urn:microsoft.com/office/officeart/2005/8/layout/cycle8"/>
    <dgm:cxn modelId="{5164917A-A930-4D07-B33F-8181933B266F}" type="presOf" srcId="{2FCDA8DB-F201-4954-9C48-F9427C2F9E8F}" destId="{70B17F4E-D206-42DB-B40B-C4781DAE0EC4}" srcOrd="1" destOrd="0" presId="urn:microsoft.com/office/officeart/2005/8/layout/cycle8"/>
    <dgm:cxn modelId="{EA754602-D640-4043-B033-D8255C743975}" type="presParOf" srcId="{C796A7D1-6734-4FE3-85FA-F0BE3A08B22D}" destId="{BF9B5504-6EFE-4F2F-83C7-C81A4E555481}" srcOrd="0" destOrd="0" presId="urn:microsoft.com/office/officeart/2005/8/layout/cycle8"/>
    <dgm:cxn modelId="{D54BCE59-B682-4AFE-8BF4-2B2D97C839BF}" type="presParOf" srcId="{C796A7D1-6734-4FE3-85FA-F0BE3A08B22D}" destId="{AC38919C-C684-492C-A967-31444BA8E40A}" srcOrd="1" destOrd="0" presId="urn:microsoft.com/office/officeart/2005/8/layout/cycle8"/>
    <dgm:cxn modelId="{5BFA0488-B206-46FA-A55F-DBFC2F2F0D37}" type="presParOf" srcId="{C796A7D1-6734-4FE3-85FA-F0BE3A08B22D}" destId="{337CCDFB-4D09-4EBC-8DEC-00576994D85C}" srcOrd="2" destOrd="0" presId="urn:microsoft.com/office/officeart/2005/8/layout/cycle8"/>
    <dgm:cxn modelId="{A4F60EBB-0832-46F7-8E96-8A087C7D6094}" type="presParOf" srcId="{C796A7D1-6734-4FE3-85FA-F0BE3A08B22D}" destId="{70B17F4E-D206-42DB-B40B-C4781DAE0EC4}" srcOrd="3" destOrd="0" presId="urn:microsoft.com/office/officeart/2005/8/layout/cycle8"/>
    <dgm:cxn modelId="{F235587A-972D-44F0-8A92-C0FD56D5FA89}" type="presParOf" srcId="{C796A7D1-6734-4FE3-85FA-F0BE3A08B22D}" destId="{69D3A27F-1825-4F4E-9BC5-97E64DCA1DCF}" srcOrd="4" destOrd="0" presId="urn:microsoft.com/office/officeart/2005/8/layout/cycle8"/>
    <dgm:cxn modelId="{AA5161AD-564B-4BEA-AE1A-9995B372AAB1}" type="presParOf" srcId="{C796A7D1-6734-4FE3-85FA-F0BE3A08B22D}" destId="{42EF4734-C20E-4131-B880-A19B04D4C638}" srcOrd="5" destOrd="0" presId="urn:microsoft.com/office/officeart/2005/8/layout/cycle8"/>
    <dgm:cxn modelId="{CDECAE9E-3AC0-40DA-BF79-0C8704D83707}" type="presParOf" srcId="{C796A7D1-6734-4FE3-85FA-F0BE3A08B22D}" destId="{E10C792A-7359-4EE2-8CD6-D8B29056622B}" srcOrd="6" destOrd="0" presId="urn:microsoft.com/office/officeart/2005/8/layout/cycle8"/>
    <dgm:cxn modelId="{2D384D09-E595-4590-9A13-BA5D6F155E65}" type="presParOf" srcId="{C796A7D1-6734-4FE3-85FA-F0BE3A08B22D}" destId="{2480E12D-5615-47CB-AD70-9C94E5489039}" srcOrd="7" destOrd="0" presId="urn:microsoft.com/office/officeart/2005/8/layout/cycle8"/>
    <dgm:cxn modelId="{0CDEFBF0-6559-406C-92AA-BC1C6626EAE8}" type="presParOf" srcId="{C796A7D1-6734-4FE3-85FA-F0BE3A08B22D}" destId="{CEC44DE0-9915-4562-8712-9A592BB9B993}" srcOrd="8" destOrd="0" presId="urn:microsoft.com/office/officeart/2005/8/layout/cycle8"/>
    <dgm:cxn modelId="{C17B6494-C4B3-4433-9328-5C9A27FC7816}" type="presParOf" srcId="{C796A7D1-6734-4FE3-85FA-F0BE3A08B22D}" destId="{23B74A22-D770-4E1E-8B96-3F18EEA70965}" srcOrd="9" destOrd="0" presId="urn:microsoft.com/office/officeart/2005/8/layout/cycle8"/>
    <dgm:cxn modelId="{B39861CD-A44C-4B4B-8794-7ABDEF72A772}" type="presParOf" srcId="{C796A7D1-6734-4FE3-85FA-F0BE3A08B22D}" destId="{9293EC2F-A914-4D12-B6D1-40BB160A85A4}" srcOrd="10" destOrd="0" presId="urn:microsoft.com/office/officeart/2005/8/layout/cycle8"/>
    <dgm:cxn modelId="{3888D8AE-3FB2-49A6-B478-834F170DBE0F}" type="presParOf" srcId="{C796A7D1-6734-4FE3-85FA-F0BE3A08B22D}" destId="{C36EA84D-3189-431B-A978-6BBA352A7EC8}" srcOrd="11" destOrd="0" presId="urn:microsoft.com/office/officeart/2005/8/layout/cycle8"/>
    <dgm:cxn modelId="{C86F8A50-7653-4B70-9748-8143879F5B76}" type="presParOf" srcId="{C796A7D1-6734-4FE3-85FA-F0BE3A08B22D}" destId="{9B99F34A-7E2A-4EDD-B896-7F47560FD55E}" srcOrd="12" destOrd="0" presId="urn:microsoft.com/office/officeart/2005/8/layout/cycle8"/>
    <dgm:cxn modelId="{040E837D-1D92-445B-8975-00435A91D23E}" type="presParOf" srcId="{C796A7D1-6734-4FE3-85FA-F0BE3A08B22D}" destId="{EDAC6138-C99D-4680-A6C6-75B6FC1ED29A}" srcOrd="13" destOrd="0" presId="urn:microsoft.com/office/officeart/2005/8/layout/cycle8"/>
    <dgm:cxn modelId="{1635DC84-6511-43F4-AB66-9DB067A6ED5D}" type="presParOf" srcId="{C796A7D1-6734-4FE3-85FA-F0BE3A08B22D}" destId="{D90F7123-87F3-4760-B27A-7E676B1F1AB7}" srcOrd="14" destOrd="0" presId="urn:microsoft.com/office/officeart/2005/8/layout/cycle8"/>
  </dgm:cxnLst>
  <dgm:bg/>
  <dgm:whole/>
  <dgm:extLst>
    <a:ext uri="http://schemas.microsoft.com/office/drawing/2008/diagram">
      <dsp:dataModelExt xmlns=""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9B5504-6EFE-4F2F-83C7-C81A4E555481}">
      <dsp:nvSpPr>
        <dsp:cNvPr id="0" name=""/>
        <dsp:cNvSpPr/>
      </dsp:nvSpPr>
      <dsp:spPr>
        <a:xfrm>
          <a:off x="878518" y="348258"/>
          <a:ext cx="4500573" cy="4500573"/>
        </a:xfrm>
        <a:prstGeom prst="pie">
          <a:avLst>
            <a:gd name="adj1" fmla="val 16200000"/>
            <a:gd name="adj2" fmla="val 18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дошкольно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104,27%</a:t>
          </a:r>
          <a:endParaRPr lang="ru-RU" sz="1400" kern="1200" dirty="0"/>
        </a:p>
      </dsp:txBody>
      <dsp:txXfrm>
        <a:off x="3250428" y="1301951"/>
        <a:ext cx="1607347" cy="1339456"/>
      </dsp:txXfrm>
    </dsp:sp>
    <dsp:sp modelId="{69D3A27F-1825-4F4E-9BC5-97E64DCA1DCF}">
      <dsp:nvSpPr>
        <dsp:cNvPr id="0" name=""/>
        <dsp:cNvSpPr/>
      </dsp:nvSpPr>
      <dsp:spPr>
        <a:xfrm>
          <a:off x="785828" y="508993"/>
          <a:ext cx="4500573" cy="4500573"/>
        </a:xfrm>
        <a:prstGeom prst="pie">
          <a:avLst>
            <a:gd name="adj1" fmla="val 1800000"/>
            <a:gd name="adj2" fmla="val 90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начального общего, основного общего, среднего обще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69,58%</a:t>
          </a:r>
          <a:endParaRPr lang="ru-RU" sz="1400" kern="1200" dirty="0"/>
        </a:p>
      </dsp:txBody>
      <dsp:txXfrm>
        <a:off x="1857393" y="3429008"/>
        <a:ext cx="2411021" cy="1178721"/>
      </dsp:txXfrm>
    </dsp:sp>
    <dsp:sp modelId="{CEC44DE0-9915-4562-8712-9A592BB9B993}">
      <dsp:nvSpPr>
        <dsp:cNvPr id="0" name=""/>
        <dsp:cNvSpPr/>
      </dsp:nvSpPr>
      <dsp:spPr>
        <a:xfrm>
          <a:off x="693137" y="348258"/>
          <a:ext cx="4500573" cy="4500573"/>
        </a:xfrm>
        <a:prstGeom prst="pie">
          <a:avLst>
            <a:gd name="adj1" fmla="val 9000000"/>
            <a:gd name="adj2" fmla="val 162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дополнительно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99,51% </a:t>
          </a:r>
          <a:endParaRPr lang="ru-RU" sz="1400" kern="1200" dirty="0"/>
        </a:p>
      </dsp:txBody>
      <dsp:txXfrm>
        <a:off x="1214454" y="1301951"/>
        <a:ext cx="1607347" cy="1339456"/>
      </dsp:txXfrm>
    </dsp:sp>
    <dsp:sp modelId="{9B99F34A-7E2A-4EDD-B896-7F47560FD55E}">
      <dsp:nvSpPr>
        <dsp:cNvPr id="0" name=""/>
        <dsp:cNvSpPr/>
      </dsp:nvSpPr>
      <dsp:spPr>
        <a:xfrm>
          <a:off x="600282" y="69651"/>
          <a:ext cx="5057787" cy="5057787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DAC6138-C99D-4680-A6C6-75B6FC1ED29A}">
      <dsp:nvSpPr>
        <dsp:cNvPr id="0" name=""/>
        <dsp:cNvSpPr/>
      </dsp:nvSpPr>
      <dsp:spPr>
        <a:xfrm>
          <a:off x="507221" y="230101"/>
          <a:ext cx="5057787" cy="5057787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90F7123-87F3-4760-B27A-7E676B1F1AB7}">
      <dsp:nvSpPr>
        <dsp:cNvPr id="0" name=""/>
        <dsp:cNvSpPr/>
      </dsp:nvSpPr>
      <dsp:spPr>
        <a:xfrm>
          <a:off x="414159" y="69651"/>
          <a:ext cx="5057787" cy="5057787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BCAD7-C771-4A4D-AEF0-606B8EE0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FBAB2C-86BA-4504-A575-EC0ED4A0B2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82C04-E14E-42B9-BBB1-E5109166D40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C61-1232-4A5B-A9D7-2D8AB930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10B-8CD7-4AC8-ACB3-3EFB4CB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0A3-A19F-411A-B094-F059655F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9D7-0197-4970-924D-9A523536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AE3A-1FBA-4333-BDF9-65A91C82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A6E-FDF3-4941-9128-0FAE9BA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EA2A-B2B5-49F6-BF04-DE5D7A6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B684-7AFC-4359-A3ED-6371AB8F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DE45-DD0A-4B42-BFEF-912161E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511-56DB-4067-9409-6A6633C6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1B72-CE2C-48F6-B75A-55251BC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594-97A4-44D5-B4B1-4E3EDF2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5FEE-8164-4652-8D0D-9D81EA6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659-F01F-428E-A5CA-6B9C3C5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730-3519-4831-9621-A4C34DA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14B-BEAA-42F9-9998-A017930A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F16-30AC-43D6-A4D9-9012CBDF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6D10-E5CD-4305-B958-A11AD277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2658-320F-4EFC-B003-32F3367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BF74-43D8-43BD-880D-7ED2887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B909-6AA1-4E94-BCE9-8108B69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3045-0343-4BB0-AA4B-BE09889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41F-B23C-47A6-834D-BB7811B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44D7-ED74-4900-8C87-395D193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5E5A-1C6E-48E1-9EE8-4AFA5AE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3F9D-693C-4E5B-9F0B-3B46BE9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AC96-1441-476D-965D-01FFAEA6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586D-5897-46B5-8D96-7BB0218B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4C25-4EC5-4F09-9DC9-E94C1849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BFD2-D7C3-44E6-9240-DB33F8C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CDE-16BC-4A16-B92A-0207C7B7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460-887B-4D72-BA23-39F9548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A4E-299A-4B5B-BC91-3DC7F40C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858-5BBB-4BA8-935E-E0C7763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6CC-57EC-4228-971B-41D7A2A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D02-1597-44D0-B5B0-1294757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634CB3-8441-45A5-B0AC-478EAAB75047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13D75-EBAE-4777-B2EC-69C72FFD25B1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ED72C6-7530-48D3-8C1E-90D974B2622D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143000"/>
            <a:ext cx="7214760" cy="3785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 мерах по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ыявлению, поддержке и сопровождению одаренных дете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934240"/>
            <a:ext cx="640044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c7c7c"/>
                </a:solidFill>
                <a:latin typeface="Constantia"/>
              </a:rPr>
              <a:t>11 но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33"/>
          <p:cNvPicPr/>
          <p:nvPr/>
        </p:nvPicPr>
        <p:blipFill>
          <a:blip r:embed="rId1"/>
          <a:stretch/>
        </p:blipFill>
        <p:spPr>
          <a:xfrm>
            <a:off x="8111880" y="214200"/>
            <a:ext cx="746280" cy="928440"/>
          </a:xfrm>
          <a:prstGeom prst="rect">
            <a:avLst/>
          </a:prstGeom>
          <a:ln w="0">
            <a:noFill/>
          </a:ln>
        </p:spPr>
      </p:pic>
      <p:sp>
        <p:nvSpPr>
          <p:cNvPr id="133" name="Заголовок 1"/>
          <p:cNvSpPr/>
          <p:nvPr/>
        </p:nvSpPr>
        <p:spPr>
          <a:xfrm>
            <a:off x="4500720" y="214200"/>
            <a:ext cx="3642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642960" y="4857840"/>
            <a:ext cx="785772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.В. Тхак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авный специалист Департамента образования г.Шах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4006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униципальная программы «Развитие муниципальной системы образования» на 2014-2020 год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33"/>
          <p:cNvPicPr/>
          <p:nvPr/>
        </p:nvPicPr>
        <p:blipFill>
          <a:blip r:embed="rId1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37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1419458"/>
              </p:ext>
            </p:extLst>
          </p:nvPr>
        </p:nvGraphicFramePr>
        <p:xfrm>
          <a:off x="1500120" y="1500120"/>
          <a:ext cx="607176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38" name="Скругленная прямоугольная выноска 7"/>
          <p:cNvSpPr/>
          <p:nvPr/>
        </p:nvSpPr>
        <p:spPr>
          <a:xfrm>
            <a:off x="6500880" y="1285920"/>
            <a:ext cx="2356920" cy="3142800"/>
          </a:xfrm>
          <a:prstGeom prst="wedgeRoundRectCallout">
            <a:avLst>
              <a:gd name="adj1" fmla="val -90782"/>
              <a:gd name="adj2" fmla="val -3766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14 центров развития ребенк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6 детских са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 с/п СО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начальная школа - детский с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4 лице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 гимназ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2 школ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 УД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ая прямоугольная выноска 8"/>
          <p:cNvSpPr/>
          <p:nvPr/>
        </p:nvSpPr>
        <p:spPr>
          <a:xfrm>
            <a:off x="6000840" y="4786200"/>
            <a:ext cx="2999880" cy="1428480"/>
          </a:xfrm>
          <a:prstGeom prst="wedgeRoundRectCallout">
            <a:avLst>
              <a:gd name="adj1" fmla="val -67335"/>
              <a:gd name="adj2" fmla="val 8900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80 в школе «Эрудит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539 в организациях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47 в УДОД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ая прямоугольная выноска 10"/>
          <p:cNvSpPr/>
          <p:nvPr/>
        </p:nvSpPr>
        <p:spPr>
          <a:xfrm>
            <a:off x="214200" y="1500120"/>
            <a:ext cx="2285640" cy="3214440"/>
          </a:xfrm>
          <a:prstGeom prst="wedgeRoundRectCallout">
            <a:avLst>
              <a:gd name="adj1" fmla="val 89072"/>
              <a:gd name="adj2" fmla="val -8700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13 премий учителя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21 стипендия обучающим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«Золотой выпуск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лагодарственные письма и грамоты Департамента образования г.Шах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3757320" cy="151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держка интеллектуально одаренных дете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33"/>
          <p:cNvPicPr/>
          <p:nvPr/>
        </p:nvPicPr>
        <p:blipFill>
          <a:blip r:embed="rId1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4286160" y="1071720"/>
            <a:ext cx="464328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яя профориентация в 38 научных обществах и 8 клубах интеллектуального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 в муниципальной школе для одаренных детей «Эрудит» организовано индивидуальное обучение 280 учащихся по программам углублённого изучения математики, информатики, физики,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и, обществознания, права и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ые образовательные программы гуманитарной, естественно-научной и математической направленности реализуют 2 гимназии, 4 лицея и 14 средних школ г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а подготовка более чем 12 тысяч шахтинских школьников и воспитанников учреждений дополнительного образования детей к различным мероприятиям конкурсной направ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Школьная ярмарка поменяет место прописки - Kam.Ru - Набережные Челны"/>
          <p:cNvPicPr/>
          <p:nvPr/>
        </p:nvPicPr>
        <p:blipFill>
          <a:blip r:embed="rId2"/>
          <a:stretch/>
        </p:blipFill>
        <p:spPr>
          <a:xfrm>
            <a:off x="1428840" y="3357720"/>
            <a:ext cx="2642760" cy="1761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425736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держка интеллектуально одаренных дете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720" y="1643040"/>
            <a:ext cx="4185720" cy="47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награждены дипломами победителей и призеров всероссийской олимпиады школьников 293 обучающихся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 обеспечена выплата 21 стипендии Мэра г.Шахты одаренным учащимся МБОУ г.Шахты в размере 12 тысяч рублей 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13 педагогическим работникам г.Шахты вручена премия Мэра г.Шахты за успешное сопровождение интеллектуально одаренных детей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общегородской выпускной бал  медалистов «Золотой выпуск»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81"/>
              </a:spcBef>
              <a:buNone/>
            </a:pP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системная работа по поддержке одаренных детей силами учреждений дополнительного образования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71360" y="3071880"/>
            <a:ext cx="333324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9" name="Picture 2" descr="33"/>
          <p:cNvPicPr/>
          <p:nvPr/>
        </p:nvPicPr>
        <p:blipFill>
          <a:blip r:embed="rId2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ая прямоугольная выноска 14"/>
          <p:cNvSpPr/>
          <p:nvPr/>
        </p:nvSpPr>
        <p:spPr>
          <a:xfrm>
            <a:off x="428760" y="1500120"/>
            <a:ext cx="8286480" cy="5000400"/>
          </a:xfrm>
          <a:prstGeom prst="wedgeRoundRectCallout">
            <a:avLst>
              <a:gd name="adj1" fmla="val 50055"/>
              <a:gd name="adj2" fmla="val 19028"/>
              <a:gd name="adj3" fmla="val 16667"/>
            </a:avLst>
          </a:prstGeom>
          <a:solidFill>
            <a:srgbClr val="ffc000">
              <a:alpha val="50000"/>
            </a:srgbClr>
          </a:solidFill>
          <a:ln w="3810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Диаграмма 29"/>
          <p:cNvGraphicFramePr/>
          <p:nvPr/>
        </p:nvGraphicFramePr>
        <p:xfrm>
          <a:off x="2571840" y="3786120"/>
          <a:ext cx="6153120" cy="2637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3" name="TextBox 35"/>
          <p:cNvSpPr/>
          <p:nvPr/>
        </p:nvSpPr>
        <p:spPr>
          <a:xfrm>
            <a:off x="714240" y="4286160"/>
            <a:ext cx="28573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009-2014 гг.                    Грант Президент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12 учащихся шк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10 воспитанников УД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Диаграмма 1"/>
          <p:cNvGraphicFramePr/>
          <p:nvPr/>
        </p:nvGraphicFramePr>
        <p:xfrm>
          <a:off x="785880" y="1571760"/>
          <a:ext cx="7606080" cy="217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5" name="Заголовок 1"/>
          <p:cNvSpPr/>
          <p:nvPr/>
        </p:nvSpPr>
        <p:spPr>
          <a:xfrm>
            <a:off x="45720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зультативность функционирования муниципальной системы поддержки интеллектуально одаренных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33"/>
          <p:cNvPicPr/>
          <p:nvPr/>
        </p:nvPicPr>
        <p:blipFill>
          <a:blip r:embed="rId3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пасибо за внимание 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1371600" y="5934240"/>
            <a:ext cx="64004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7c7c7c"/>
                </a:solidFill>
                <a:latin typeface="Constantia"/>
              </a:rPr>
              <a:t>11 но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школа_gif"/>
          <p:cNvPicPr/>
          <p:nvPr/>
        </p:nvPicPr>
        <p:blipFill>
          <a:blip r:embed="rId1"/>
          <a:stretch/>
        </p:blipFill>
        <p:spPr>
          <a:xfrm>
            <a:off x="642960" y="3786120"/>
            <a:ext cx="2428560" cy="19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33"/>
          <p:cNvPicPr/>
          <p:nvPr/>
        </p:nvPicPr>
        <p:blipFill>
          <a:blip r:embed="rId2"/>
          <a:stretch/>
        </p:blipFill>
        <p:spPr>
          <a:xfrm>
            <a:off x="8111880" y="214200"/>
            <a:ext cx="746280" cy="92844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4500720" y="214200"/>
            <a:ext cx="3642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  <Words>336</Words>
  <Paragraphs>69</Paragraphs>
  <Company>Департамент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3:53:26Z</dcterms:created>
  <dc:creator>thakO</dc:creator>
  <dc:description/>
  <dc:language>en-US</dc:language>
  <cp:lastModifiedBy>tkhak</cp:lastModifiedBy>
  <dcterms:modified xsi:type="dcterms:W3CDTF">2014-11-10T06:07:20Z</dcterms:modified>
  <cp:revision>169</cp:revision>
  <dc:subject/>
  <dc:title>Реализация переданных государственных полномочий в управлении муниципальным образовательным комплекс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